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CEB-3ABB-4D94-9611-7BABB62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F68-8E2B-46DE-B24B-900EE8F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19A-20BE-4692-99C2-3BB4EDD1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648-A0C4-4E03-8C0B-E831C024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B75-1F9E-4396-995F-3284BF7D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E2E-2C6A-475D-9877-A129E77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8FC-1159-4EBC-8B45-87C7825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634-BB7E-4F07-8271-806D64DB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864-EB09-4502-A7E9-9EB44B3C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B7B-4331-4E7C-9E82-DB4C5F7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CDA-BB56-4838-A3D9-4ABFEAE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62F-10AD-4656-855B-613A40B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4E58-EC02-40E2-9E42-0C52DBF6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 Biology Essential Chemistry Packet: Questions 4 &amp;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elly, Amy, Chris, and J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4: What is the appropriate C:H:O ratio in each of the following types of macromolec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(fa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rational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c Ac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rational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:                                                                Carbohydr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H  H  H  H  H  H  H  H 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|    |   |    |    |    |   |    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-C- C- C- C- C-  C-C–C- C-C=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|    |   |    |    |    |   |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H  H  H  H  H  H  H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86200"/>
            <a:ext cx="3895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5: What other elements are commonly associated with each of these four types of macromolec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828800"/>
          <a:ext cx="8763120" cy="46404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contains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contains no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contain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contains no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 contains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 contains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7:43Z</dcterms:created>
  <dc:creator>xpstudent</dc:creator>
  <dc:description/>
  <dc:language>en-US</dc:language>
  <cp:lastModifiedBy>xpstudent</cp:lastModifiedBy>
  <dcterms:modified xsi:type="dcterms:W3CDTF">2010-09-23T14:29:58Z</dcterms:modified>
  <cp:revision>4</cp:revision>
  <dc:subject/>
  <dc:title>AP Biology Essential Chemistry Packet: Questions 4 &amp; 5</dc:title>
</cp:coreProperties>
</file>